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AAE-0DFA-4E4E-A894-5EB6D14AAF7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EA3-24E8-408C-8568-7E209EE0802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931-38BF-4B52-93F5-48F646AD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081-EC6B-4204-8C9A-43B888D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2E1-1C83-4B92-8825-A153A152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B71-6068-4C91-A39A-9BE49F09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678-C923-41BE-8EDE-7B2A537A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AA2-D361-4EAA-ACE4-CFE123B5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98B-ED38-4038-8298-CDF4C03F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C1C-8AA9-42E3-9DA4-3F9CAC3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253-8AEE-4232-8906-A8E1FC0F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321-3896-437A-8AC8-155E9B0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4DC-5438-44A4-9F21-6D33CBE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8BD-FF67-4166-90F9-E06497A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6C3-89B0-40A7-A101-B55EF8C48BB6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6"/>
          <p:cNvSpPr/>
          <p:nvPr/>
        </p:nvSpPr>
        <p:spPr>
          <a:xfrm>
            <a:off x="1320840" y="960480"/>
            <a:ext cx="6324480" cy="563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7"/>
          <p:cNvSpPr/>
          <p:nvPr/>
        </p:nvSpPr>
        <p:spPr>
          <a:xfrm>
            <a:off x="1397160" y="1447920"/>
            <a:ext cx="32004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Cri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ressing probl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adline-driven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Last minute pr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8"/>
          <p:cNvSpPr/>
          <p:nvPr/>
        </p:nvSpPr>
        <p:spPr>
          <a:xfrm>
            <a:off x="4597560" y="1447920"/>
            <a:ext cx="3555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erson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lationship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fle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trategic Planning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9"/>
          <p:cNvSpPr/>
          <p:nvPr/>
        </p:nvSpPr>
        <p:spPr>
          <a:xfrm>
            <a:off x="1332000" y="4432320"/>
            <a:ext cx="32655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nterruptions, so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hone ca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ome mail, some repor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n agenda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ome pressing mat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ome drop in visi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0"/>
          <p:cNvSpPr/>
          <p:nvPr/>
        </p:nvSpPr>
        <p:spPr>
          <a:xfrm>
            <a:off x="4597560" y="4432320"/>
            <a:ext cx="3200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rivi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ome phone ca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ime was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scape”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rrelevant 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cessive internet/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1"/>
          <p:cNvSpPr/>
          <p:nvPr/>
        </p:nvSpPr>
        <p:spPr>
          <a:xfrm>
            <a:off x="1397160" y="960480"/>
            <a:ext cx="30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Gill Sans MT"/>
              </a:rPr>
              <a:t>I Stress/Burno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2"/>
          <p:cNvSpPr/>
          <p:nvPr/>
        </p:nvSpPr>
        <p:spPr>
          <a:xfrm>
            <a:off x="4572000" y="91440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I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Vision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3"/>
          <p:cNvSpPr/>
          <p:nvPr/>
        </p:nvSpPr>
        <p:spPr>
          <a:xfrm>
            <a:off x="1397160" y="38559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II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Out of Control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64"/>
          <p:cNvSpPr/>
          <p:nvPr/>
        </p:nvSpPr>
        <p:spPr>
          <a:xfrm>
            <a:off x="4597560" y="385596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IV </a:t>
            </a:r>
            <a:r>
              <a:rPr b="1" lang="en-US" sz="2200" spc="-1" strike="noStrike">
                <a:solidFill>
                  <a:srgbClr val="ff00ff"/>
                </a:solidFill>
                <a:latin typeface="Arial Black"/>
              </a:rPr>
              <a:t>Irresponsibility</a:t>
            </a:r>
            <a:r>
              <a:rPr b="1" lang="en-US" sz="36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65"/>
          <p:cNvSpPr/>
          <p:nvPr/>
        </p:nvSpPr>
        <p:spPr>
          <a:xfrm>
            <a:off x="4521240" y="960480"/>
            <a:ext cx="0" cy="563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66"/>
          <p:cNvSpPr/>
          <p:nvPr/>
        </p:nvSpPr>
        <p:spPr>
          <a:xfrm>
            <a:off x="1320840" y="3780000"/>
            <a:ext cx="6324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67"/>
          <p:cNvSpPr/>
          <p:nvPr/>
        </p:nvSpPr>
        <p:spPr>
          <a:xfrm>
            <a:off x="1701720" y="5335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Urg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68"/>
          <p:cNvSpPr/>
          <p:nvPr/>
        </p:nvSpPr>
        <p:spPr>
          <a:xfrm>
            <a:off x="4826160" y="5335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Not Urg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9"/>
          <p:cNvSpPr/>
          <p:nvPr/>
        </p:nvSpPr>
        <p:spPr>
          <a:xfrm rot="16200000">
            <a:off x="-124920" y="21312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0"/>
          <p:cNvSpPr/>
          <p:nvPr/>
        </p:nvSpPr>
        <p:spPr>
          <a:xfrm rot="16200000">
            <a:off x="-124920" y="49507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 Black"/>
              </a:rPr>
              <a:t>Not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6:45:49Z</dcterms:created>
  <dc:creator>Orla</dc:creator>
  <dc:description/>
  <dc:language>en-US</dc:language>
  <cp:lastModifiedBy>Orla</cp:lastModifiedBy>
  <dcterms:modified xsi:type="dcterms:W3CDTF">2012-04-29T16:47:12Z</dcterms:modified>
  <cp:revision>1</cp:revision>
  <dc:subject/>
  <dc:title>Slide 1</dc:title>
</cp:coreProperties>
</file>