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D9DC-CE5C-4199-A3B4-50BB5643E915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ED10-ADC5-494C-AB85-4DB3E65A2A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D540-2D64-47CB-B898-F056D609B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FED5-00B8-4C63-9290-8BA39C2A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FC29-0E06-4021-812A-A892A6EC0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00DE-7048-4C3C-82F6-93DA2D91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52C7-271A-4126-A6AB-A465DA8D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7B48-B8FB-4E30-973C-D6112E3D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3766-98BD-4399-9168-66E6647B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B552-1D4C-4A99-99AA-42F36304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B94B-99A7-40A0-805D-1BCB05A2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6835-F297-440E-B6A5-198E9EAC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34FB-23F6-45DC-BFFE-78236A44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A9F7-9635-426B-8216-E48632E8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0316-4427-4F2F-9506-B20CC3F53E47}" type="slidenum">
              <a:rPr b="0" lang="en-I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1440" y="1440"/>
            <a:ext cx="324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Line 4"/>
          <p:cNvSpPr/>
          <p:nvPr/>
        </p:nvSpPr>
        <p:spPr>
          <a:xfrm flipH="1" flipV="1">
            <a:off x="5790960" y="5257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214200" y="0"/>
            <a:ext cx="8928360" cy="6856920"/>
            <a:chOff x="214200" y="0"/>
            <a:chExt cx="8928360" cy="6856920"/>
          </a:xfrm>
        </p:grpSpPr>
        <p:grpSp>
          <p:nvGrpSpPr>
            <p:cNvPr id="51" name="Group 6"/>
            <p:cNvGrpSpPr/>
            <p:nvPr/>
          </p:nvGrpSpPr>
          <p:grpSpPr>
            <a:xfrm>
              <a:off x="214200" y="0"/>
              <a:ext cx="8928360" cy="6856920"/>
              <a:chOff x="214200" y="0"/>
              <a:chExt cx="8928360" cy="6856920"/>
            </a:xfrm>
          </p:grpSpPr>
          <p:pic>
            <p:nvPicPr>
              <p:cNvPr id="52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291960" y="0"/>
                <a:ext cx="7110360" cy="621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Text Box 9"/>
              <p:cNvSpPr/>
              <p:nvPr/>
            </p:nvSpPr>
            <p:spPr>
              <a:xfrm>
                <a:off x="3464640" y="5833800"/>
                <a:ext cx="1333440" cy="10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Gill Sans MT"/>
                  </a:rPr>
                  <a:t>Others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Text Box 10"/>
              <p:cNvSpPr/>
              <p:nvPr/>
            </p:nvSpPr>
            <p:spPr>
              <a:xfrm>
                <a:off x="214200" y="5051160"/>
                <a:ext cx="2065320" cy="98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Gill Sans MT"/>
                  </a:rPr>
                  <a:t>Product Dissatisfac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Text Box 11"/>
              <p:cNvSpPr/>
              <p:nvPr/>
            </p:nvSpPr>
            <p:spPr>
              <a:xfrm>
                <a:off x="5417280" y="5322960"/>
                <a:ext cx="2540880" cy="10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Gill Sans MT"/>
                  </a:rPr>
                  <a:t>Better Prices Elsewher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Line 12"/>
              <p:cNvSpPr/>
              <p:nvPr/>
            </p:nvSpPr>
            <p:spPr>
              <a:xfrm flipV="1">
                <a:off x="1440360" y="4929120"/>
                <a:ext cx="691200" cy="48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7" name="Group 13"/>
              <p:cNvGrpSpPr/>
              <p:nvPr/>
            </p:nvGrpSpPr>
            <p:grpSpPr>
              <a:xfrm>
                <a:off x="5982840" y="297000"/>
                <a:ext cx="3159720" cy="1340280"/>
                <a:chOff x="5982840" y="297000"/>
                <a:chExt cx="3159720" cy="1340280"/>
              </a:xfrm>
            </p:grpSpPr>
            <p:sp>
              <p:nvSpPr>
                <p:cNvPr id="58" name="Text Box 14"/>
                <p:cNvSpPr/>
                <p:nvPr/>
              </p:nvSpPr>
              <p:spPr>
                <a:xfrm>
                  <a:off x="6669720" y="297000"/>
                  <a:ext cx="24728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Gill Sans MT"/>
                    </a:rPr>
                    <a:t>Poor Service!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9" name="Line 15"/>
                <p:cNvSpPr/>
                <p:nvPr/>
              </p:nvSpPr>
              <p:spPr>
                <a:xfrm flipH="1">
                  <a:off x="5982840" y="743760"/>
                  <a:ext cx="824040" cy="89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60" name="Line 16"/>
            <p:cNvSpPr/>
            <p:nvPr/>
          </p:nvSpPr>
          <p:spPr>
            <a:xfrm flipH="1" flipV="1">
              <a:off x="3863880" y="5526720"/>
              <a:ext cx="9828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Rectangle 7"/>
          <p:cNvSpPr/>
          <p:nvPr/>
        </p:nvSpPr>
        <p:spPr>
          <a:xfrm>
            <a:off x="0" y="685800"/>
            <a:ext cx="91440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Line 16"/>
          <p:cNvSpPr/>
          <p:nvPr/>
        </p:nvSpPr>
        <p:spPr>
          <a:xfrm flipH="1" flipV="1">
            <a:off x="5857560" y="4643280"/>
            <a:ext cx="90360" cy="1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20:25:17Z</dcterms:created>
  <dc:creator>fiona</dc:creator>
  <dc:description/>
  <dc:language>en-US</dc:language>
  <cp:lastModifiedBy>fiona</cp:lastModifiedBy>
  <dcterms:modified xsi:type="dcterms:W3CDTF">2011-11-21T20:26:30Z</dcterms:modified>
  <cp:revision>2</cp:revision>
  <dc:subject/>
  <dc:title>Slide 1</dc:title>
</cp:coreProperties>
</file>