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AA51-520B-482A-A1C4-CD2943AB24DE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0BFC-7EF2-42FF-86A4-2C7E3BEA8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B18-F821-40B8-B69A-7C683AB8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7A3-7194-4F7A-A79E-6F236AD3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875-3D0C-49AC-BC31-3D40016B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39C-71F7-475C-8DB8-7FA24939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0CE-3371-444B-8A01-0E967E3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E00-1E30-4451-A12F-E1E57FDE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ECB-712B-4EF1-AE6D-55476B95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991-EB76-4F42-A365-10935993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AA3-F36C-4488-AC16-EA863810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CCB-8B39-493F-873B-664BE83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CC1-4E1F-4E95-A767-4CA0D04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B23-14BA-4E13-980A-58B04656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97B-BA4B-4BEC-8D65-03E0DD744B88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440" y="1440"/>
            <a:ext cx="32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4"/>
          <p:cNvSpPr/>
          <p:nvPr/>
        </p:nvSpPr>
        <p:spPr>
          <a:xfrm flipH="1" flipV="1">
            <a:off x="57909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214200" y="0"/>
            <a:ext cx="8928360" cy="6856920"/>
            <a:chOff x="214200" y="0"/>
            <a:chExt cx="8928360" cy="6856920"/>
          </a:xfrm>
        </p:grpSpPr>
        <p:grpSp>
          <p:nvGrpSpPr>
            <p:cNvPr id="51" name="Group 6"/>
            <p:cNvGrpSpPr/>
            <p:nvPr/>
          </p:nvGrpSpPr>
          <p:grpSpPr>
            <a:xfrm>
              <a:off x="214200" y="0"/>
              <a:ext cx="8928360" cy="6856920"/>
              <a:chOff x="214200" y="0"/>
              <a:chExt cx="8928360" cy="6856920"/>
            </a:xfrm>
          </p:grpSpPr>
          <p:pic>
            <p:nvPicPr>
              <p:cNvPr id="5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91960" y="0"/>
                <a:ext cx="7110360" cy="62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9"/>
              <p:cNvSpPr/>
              <p:nvPr/>
            </p:nvSpPr>
            <p:spPr>
              <a:xfrm>
                <a:off x="3464640" y="5833800"/>
                <a:ext cx="1333440" cy="10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 Sans MT"/>
                  </a:rPr>
                  <a:t>Others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Text Box 10"/>
              <p:cNvSpPr/>
              <p:nvPr/>
            </p:nvSpPr>
            <p:spPr>
              <a:xfrm>
                <a:off x="214200" y="5051160"/>
                <a:ext cx="2065320" cy="9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 Sans MT"/>
                  </a:rPr>
                  <a:t>Product Dissatisfac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Text Box 11"/>
              <p:cNvSpPr/>
              <p:nvPr/>
            </p:nvSpPr>
            <p:spPr>
              <a:xfrm>
                <a:off x="5417280" y="5322960"/>
                <a:ext cx="2540880" cy="10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ill Sans MT"/>
                  </a:rPr>
                  <a:t>Better Prices Elsewher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V="1">
                <a:off x="1440360" y="4929120"/>
                <a:ext cx="6912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" name="Group 13"/>
              <p:cNvGrpSpPr/>
              <p:nvPr/>
            </p:nvGrpSpPr>
            <p:grpSpPr>
              <a:xfrm>
                <a:off x="5982840" y="297000"/>
                <a:ext cx="3159720" cy="1340280"/>
                <a:chOff x="5982840" y="297000"/>
                <a:chExt cx="3159720" cy="1340280"/>
              </a:xfrm>
            </p:grpSpPr>
            <p:sp>
              <p:nvSpPr>
                <p:cNvPr id="58" name="Text Box 14"/>
                <p:cNvSpPr/>
                <p:nvPr/>
              </p:nvSpPr>
              <p:spPr>
                <a:xfrm>
                  <a:off x="6669720" y="297000"/>
                  <a:ext cx="24728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Gill Sans MT"/>
                    </a:rPr>
                    <a:t>Poor Service!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" name="Line 15"/>
                <p:cNvSpPr/>
                <p:nvPr/>
              </p:nvSpPr>
              <p:spPr>
                <a:xfrm flipH="1">
                  <a:off x="5982840" y="743760"/>
                  <a:ext cx="824040" cy="89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" name="Line 16"/>
            <p:cNvSpPr/>
            <p:nvPr/>
          </p:nvSpPr>
          <p:spPr>
            <a:xfrm flipH="1" flipV="1">
              <a:off x="3863880" y="5526720"/>
              <a:ext cx="9828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7"/>
          <p:cNvSpPr/>
          <p:nvPr/>
        </p:nvSpPr>
        <p:spPr>
          <a:xfrm>
            <a:off x="0" y="68580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6"/>
          <p:cNvSpPr/>
          <p:nvPr/>
        </p:nvSpPr>
        <p:spPr>
          <a:xfrm flipH="1" flipV="1">
            <a:off x="5857560" y="4643280"/>
            <a:ext cx="9036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20:25:17Z</dcterms:created>
  <dc:creator>fiona</dc:creator>
  <dc:description/>
  <dc:language>en-US</dc:language>
  <cp:lastModifiedBy>fiona</cp:lastModifiedBy>
  <dcterms:modified xsi:type="dcterms:W3CDTF">2011-11-21T20:26:30Z</dcterms:modified>
  <cp:revision>2</cp:revision>
  <dc:subject/>
  <dc:title>Slide 1</dc:title>
</cp:coreProperties>
</file>